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8FF4-50CB-43AD-BE3A-B5C64401C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EB57-AE3D-4EAE-8383-7965C1BC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13B5-ED44-484A-B6D3-2FDE27CE8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F771-B830-4748-9A57-2433F6650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5524-7CF0-4FF8-B1C5-BB61CDAC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913E-A2EE-4B01-8EED-3175FBAB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A17A-3C0C-4894-AE40-3AC2F318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846F-B392-4356-99BA-A36A5405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9CBB-CB02-43D4-BE23-7C5B2D3C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C524-C2B6-4E4C-8F1B-DC1AE7E7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8B2D-1893-408C-9E45-BBDFE25C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9800-0940-4A1E-B9F3-D6293181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99577C-A503-4968-9F35-60EBA363C9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lack%20hat%201.mp3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lue%20coat%202.mp3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reen%20shirt%203.mp3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rown%20boots%204.mp3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reen%20boots%205.mp3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lue%20shirt%206.mp3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Guy Fawkes, the suspect..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 to listen and fill-in the gap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62040" y="1768320"/>
            <a:ext cx="695340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something black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as it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08000" y="1768320"/>
            <a:ext cx="3417840" cy="4989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_ His …  was bl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_ He was wearing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lack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something blue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as it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7560" y="1768320"/>
            <a:ext cx="3259080" cy="4989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is …. was b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 was wearing a blue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something green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as it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63520" y="1768320"/>
            <a:ext cx="3106800" cy="49896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is …. was gr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 was wearing a green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brown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ere they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2760" y="1768320"/>
            <a:ext cx="3210120" cy="49896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is …. were br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 was wearing brown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green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ere they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7560" y="1768320"/>
            <a:ext cx="3259080" cy="49896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is ….were gr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 was wearing green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something blue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as it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08000" y="1768320"/>
            <a:ext cx="3417840" cy="4989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is … was b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 was wearing a blue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2T08:51:56Z</dcterms:created>
  <dc:creator/>
  <dc:description/>
  <dc:language>en-US</dc:language>
  <cp:lastModifiedBy/>
  <dcterms:modified xsi:type="dcterms:W3CDTF">2014-03-22T09:28:57Z</dcterms:modified>
  <cp:revision>9</cp:revision>
  <dc:subject/>
  <dc:title/>
</cp:coreProperties>
</file>